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4A9-64D7-424D-9344-73620E41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898-DFA9-4ED3-ABE4-97A3C425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ABA-BB00-455C-A4C8-EA67E2D6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372-9CCA-4A2E-B040-94FD7E64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CDA9-8E58-4552-B9B8-74DD73FC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852E-186F-42C8-BB97-3742A8F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0398-0ED5-484A-B2C7-D934B990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B464-ADD3-4093-9A22-97775119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9376-7AFA-4440-BEAA-0BA99F66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CDFC-9203-4B26-B393-2D25E5C5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CFF0-85F2-4CFD-9C92-8C889F1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972-2490-491C-A01E-388242F1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BDEC-AB42-4DF5-B626-9AD1A2E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175D-F542-4955-A252-0D42475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866B-B7CF-46AA-B199-99AB1170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C6CF-DFD8-4845-9EFC-32E5B2CA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3E18-3371-4164-979B-6064E928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5CF-4E07-4AE8-B716-6D0D2CD3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EE8-07D6-4F7A-98A5-F40EB9C5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7B4-4157-4BB0-A208-DA797EA5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2E4-F884-42CF-8E0A-A77B2309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1BF-B816-4AF6-BFDB-BFFEE6D4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14D-EFF7-4677-807B-4FB8696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87C-6826-4D2F-A15A-7E913812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943A-751F-4AF8-90E1-B4157D7707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31A3-C0E5-446C-9AC7-B70B2E75F3F8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03280" y="15663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Формирование культуры здорового питания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3683160" y="6477120"/>
            <a:ext cx="1777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biologiya.ne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технического окруж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нитария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чистая вода, санитарно-технические сооружения и надлежащее удаление отход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сортимент здоровой пищ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лезные для здоровья и высококачественные продукты и питани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ятная обстановка для приема пищи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остаточно просторная и комфортабельная обстановка для общения во время приема пищи и для получения удовольствия от процесса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ние поставщик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ставщики продуктов питания, находящиеся на школьной территории или рядом с ней и предлагающие различные продукты, содействуя тем самым усилиям школы в области охраны здоровь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ые сооруж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сооружения, позволяющие осуществлять практическую деятельность, связанную с питанием, например, приготовление пищи, эксперименты с продуктами и выращивание продук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благоприятной для здоровья психосоциальной обстановк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бстановка должна способствовать формированию полезных для здоровья взглядов и соответствующим действиям школьного сообщества и должна поддерживать другие усилия в области охраны здоровья в школ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 учителей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ителя играют важную роль, являясь положительным примером для школьников и их наставниками. Питаясь с пользой для здоровья, они способствуют формированию у школьников здорового образа жизн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 сверстников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ащиеся могут обеспечить поддержку сверстникам, давая им рекомендации и постоянно напоминая о важности здорового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циональное 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тание человека должно быть рациональным, сбалансированным, т.е. соответствовать физиологическим потребностям организма с учетом условий труда, климатических особенностей местности, возраста, массы тела, пола и состояния здоровья челове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ные принципы сбалансированного пит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трогое соответствие энергетической ценности пищи энергозатратам челове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Человек должен получать с пищей столько энергии, сколько он тратит ее за определенный отрезок времени)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ставляющие пищевые вещества (белки, жиры, углеводы, микроэлементы) должны находиться в строго определенном соотноше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Нормы соотношения белков, жиров, углеводов в рационе  основных групп населения  составляют 1:1,1:4; у лиц, занятых физическим трудом, - 1:1,3:5; у пожилых людей – 1:1,1:4,8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181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ажным показателем в сбалансированном питании является соблюдение режим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ежим питания – это распределение пищи в течение дня по времени, калорийности, объем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здание оптимальных условий для усвоения пищи человеком при составлении суточ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Продукты, содержащие белки животного происхождения, следует планировать на первую половину дня, а молочно-растительные – на вторую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Энергетическая ценность суточных рационов должна обеспечиваться в основном углеводами растительной пищи, которая обогащает пищу витаминами, минеральными веществами и клетчаткой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12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здоровьесберегающего питания. </a:t>
            </a:r>
            <a:br>
              <a:rPr sz="28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.Ю.Яланузян - педагог-организатор санитарного надзора, заведующая технологической пищевой лабораторией ДО Я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. Перечень документов, применяемых в работе предприятиями общественного питания при образовательных   учреждения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. Перечень продуктов и блюд, которые не допускаются для реализации в организациях общественного питания образовательных учреждени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. Рекомендуемый ассортимент пищевых продуктов для организац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полнительного питания обучающихс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4. Расчет днев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уточный расход энергии челове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Энергия, затрачиваемая на работу внутренних органов и теплообмен, называется основным обмен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и температуре воздуха 20 ºС, полном покое, натощак основной обмен составляет 1 ккал в 1 ч на 1 кг массы тела человека. Следовательно, основной обмен зависит от массы тела, пола, возраста человек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счет дневного рациона пита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ИЩЕВЫЕ     ДОБА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щевые добавк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– это природные и синтетические химические соединения, которые не представляют собой источник энергии, как пища, а служат лишь добавкой в продукты для улучшения их качеств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лассификация пищевых добавок выглядит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100-Е182  -  крас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устанавливают или восстанавливают цвет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200 и далее  -  консервант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повышает срок хранения продуктов, защищая их от микробов; добавки при  созревании вин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300 и далее  -  антиокисл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защищают от окисления, например, от прогоркания жиров, изменения цве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00 и далее  -  стабилизаторы и загуст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повышают вязкость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50 и далее  -  эмульгатор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создают однородную смесь  не смешиваемых фаз, например воды и масл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500 и далее  - регуляторы кислот и разрыхлител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600 и далее  -  усилители вкуса и аромат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– делают вкус продукта более насыщенным и аромат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700 и Е800  -  запасные индекс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900  - глазирующие агенты и улучшители хлеб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ИЩЕВЫЕ ДОБАВКИ, ЗАПРЕЩЕННЫЕ В МИРЕ, НО РАЗРЕШЕННЫЕ В РОССИ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Рациональное питание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дно из основных средств обеспечения нормального физического и умственного развития дет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но повышает их устойчивость к болезням и успеваемость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 обеспечивается правильной организацией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ИТАНИЯ ОБУЧАЮЩИХС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7640" y="33300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се болезни к нам приходят через рот.</a:t>
            </a:r>
            <a:br>
              <a:rPr sz="3200"/>
            </a:b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Народная муд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– залог здоровь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усская народная пословиц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вотное насыщается, человек ест, умный человек питаетс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Бриайт Саварен, французский физиолог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жим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ки между отдельными приемами пищи не должны превышать 4–5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ок между ужином и завтраком следующего дня (ночной промежуток) не должен превышать 12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При обычном распорядке дня дети в школе получают завтрак, а при продленном дне – завтрак и обед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омашнее питание должно дополнять школьное, что обеспечивает полноценность всего суточного пищевого рациона. Регулярный прием пищи ежедневно в одно и то же время в более или менее равномерных количествах является основой рационального детского питан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ежим питания детей О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жим питания детей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нимающих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ервую смену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-й завтрак (8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2-й завтрак (11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5 часов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ля школьников, занимающихся во вторую смену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втрак (8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2 часов 30 мин.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лдник (16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 30 мин.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детей должно наиболее полно удовлетворять как энергетические, так и ростовые нужды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отребность в калориях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сутк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ладшего школьного возраст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7 – 10 лет - 2400 кка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ая же, как потребность в калориях пожилых людей 60–70 лет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 возраст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1–13 лет - 2850 ккал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олько же, сколько и взрослые, занятые трудом, требующим несущественных физических усилий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ПОДРОСТК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4–17 лет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ЮНОШЕЙ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- 3150 ккал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(большая, чем у взрослых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тав пищевого рацио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лки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жи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глево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еральные веществ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итами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ды бел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животные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 источники животного белка – молоко и молочные продукты, мясо, рыба и яйц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растительные  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точники растительного белка - хлебобулочные изделия, крупяные и макаронные изделия, а также картофель, горох, фасоль и т.д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аиболее важные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точники жира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: растительное и сливочное масло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начение жиров в питании детей: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пользуются для рос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для построения нервной ткани и тканей мозг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жиры являются растворителями витаминов А и Д, обеспечивая наиболее полное их усвоени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основной источник энергии для мышечной деятельности.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оличество углеводов в питании школьников должно быть в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4 раза больше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, чем белков и жиров, т. е.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20–420 г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в сут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ужно использовать легко усвояемые углеводы (сахар, мед, варенье, кондитерские изделия и др.)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итание  ребенка должно   включать все пищевые вещества в оптимальных соотношения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кажды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рамм белка должно приходиться 1 г жира и 4 г углеводо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нергетическая ценность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белка составляет 4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жира – 9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углеводов – 4 кка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ругие органические вещества не учитываются, так как их содержание в продуктах незначительно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принципов рационального питани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гулярность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ежим питания призван обеспечить равномерную нагрузку в системе пищеварения в течение дня, привычка питаться регулярно должна воспитываться с раннего детства, и основа ее – организация питания в семье, позволяющая сформировать "рефлекс на время"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знообразие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Формирование у  детей разнообразного вкусового кругозора, чтобы  им нравились разные продукты и блю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декватность.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ща, которую съедает в течение дня ребенок, должна восполнять энерготраты его организм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цион и режим питания ребенка, активно занимающегося спортом, должен отличаться от рациона и режима питания его менее подвижных сверстник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во время болезни – от питания в обычное врем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тний стол – от зимнего стола и т.д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деле контроля адекватности питания основная ответственность – на взрослых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4916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18920" y="692280"/>
            <a:ext cx="7203960" cy="55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ое питание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это совместное воздействие потребляемой нами пищи, нашего состояния здоровья и предпринимаемых нами усилий для улучшения здоровья, как собственного, так и окружающих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836640"/>
            <a:ext cx="749160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езопасность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бучение правильному питанию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олжно включать задачу формирования основных гигиенических навыко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словия безопасности питания: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облюдение ребенком правил личной гигиен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ние различать свежие и несвежие продукт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сторожное обращение с незнакомыми продукт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Удовольств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здорового (правильного) питания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дико-санитарное просвещение на основе развития практических навык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сновная цель школьного медико-санитарного просвещения - помочь учащимся перейти на здоровый образ жизни и создать условия, способствующие укреплению здоровья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124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 и условия, отождествляемы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о здоровым питани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отождествляемые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со здоровым питанием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главным образом злаковых/хлебных продуктов, овощей и фрукт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бор в пользу продуктов из цельного зерна и свежих продуктов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продуктов, содержащих важные витамины и минералы, например, витамин А, витамин С, железо и йод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ренное потребление сахара, жиров и соли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иета с низким содержанием жир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безопасной воды в количествах, необходимых для здоровья и утоления жажды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бязательное вскармливание грудью младенцев до четырех- - шестимесячного возрас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словия, способствующие безопасному здоровому питанию, включают в себ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ность безопасной воды и удаление отходов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 к дешевой здоровой пище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щественная поддержка здорового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751536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 здорового питания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обучающихс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правления работы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ирование жизненно-важных навыков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формирование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здоровительно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нцип обучения основам здорового 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00120" y="1412640"/>
            <a:ext cx="749160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учение основам  здорового питания должно отвечать принципу практической целесообразности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все сведения, сообщаемые ребенку, формируемые навыки поведения, должны быть полезны в повседневной жизн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орм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едико-санитарного просвещения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ини-</a:t>
            </a:r>
            <a:r>
              <a:rPr b="1" i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екции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, беседы, уроки здоровь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бразовательная программа «Разговор о правильном питании» 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Института возрастной физиологии РАО;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олевые игры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соревновани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искуссии, дебат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Творческие конкурс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дание буклетов, мини-книжек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формление «Уголка здорового питания», дневника здоровья, дневника питания;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формирование основ культуры здорового питания  через знакомство с народными традициями и обычаями, народной кухней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Аудиовизуальные средств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76360" y="333000"/>
            <a:ext cx="7491600" cy="59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ирование культуры питания – это всегда сотрудничество родителей и педагог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вы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на этом пути – сформировать у взрослых членов семьи понимание важности и значения правильного питания для здоровья ребенка и их собственного здоровья, расширить их осведомленность в этой област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торо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– убедить родителей в практической пользе воспитательной работы, проводимой образовательным учрежде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рети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– не допустить неуважительного отношения к традициям питания в семь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рганизация работы с родителями по вопросам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кции,   тематические занятия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бесед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авки продуктов детского питания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формление информационного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уголка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здание буклетов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ини-книжек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тренинги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рганизация совета по питанию;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лубы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упление медиков, диетолог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700280"/>
            <a:ext cx="3889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 пище содержатся основные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питательные вещества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которые являются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троительным материалом для организма человек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источником энерги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крепляют иммунитет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8" name="i-main-pic" descr="Картинка 4 из 14981"/>
          <p:cNvPicPr/>
          <p:nvPr/>
        </p:nvPicPr>
        <p:blipFill>
          <a:blip r:embed="rId1"/>
          <a:stretch/>
        </p:blipFill>
        <p:spPr>
          <a:xfrm>
            <a:off x="4572000" y="20574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достаточность питательных вещест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то физическое состояние человека, вызванное неправильно подобранной диетой или физической неспособностью усваивать   питательные веществ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то понятие включает в себя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е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больше калорий, чем расходует, что приводит к избыточному телесному жир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до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недостаточное количество калорий и питательных веществ, что приводит к уменьшению массы тела и/или дефициту питательных элемен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835280" y="155736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5292720" y="39337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651640" y="1557360"/>
            <a:ext cx="2631960" cy="213660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1692360" y="4941720"/>
            <a:ext cx="297180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Line 9"/>
          <p:cNvSpPr/>
          <p:nvPr/>
        </p:nvSpPr>
        <p:spPr>
          <a:xfrm>
            <a:off x="684360" y="134136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стоянно нужно есть -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ля здоровья важно -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рукты, овощи, омлет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ворог, простокваш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i-main-pic" descr="Картинка 13 из 14981"/>
          <p:cNvPicPr/>
          <p:nvPr/>
        </p:nvPicPr>
        <p:blipFill>
          <a:blip r:embed="rId1"/>
          <a:stretch/>
        </p:blipFill>
        <p:spPr>
          <a:xfrm>
            <a:off x="4572000" y="2481120"/>
            <a:ext cx="4343400" cy="30816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-main-pic" descr="Картинка 20 из 14981"/>
          <p:cNvPicPr/>
          <p:nvPr/>
        </p:nvPicPr>
        <p:blipFill>
          <a:blip r:embed="rId1"/>
          <a:stretch/>
        </p:blipFill>
        <p:spPr>
          <a:xfrm>
            <a:off x="5522760" y="16984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499760" y="1762200"/>
            <a:ext cx="36766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до любить есть все овощи и фрукты, мясо и рыбу,  хлеб и кашу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ак гласит народная мудрость: «Овощи и фрукты – кладовая здоровья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02920" y="5638320"/>
            <a:ext cx="7435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«Я ем, чтобы быть здоровым!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8580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52760" y="907560"/>
            <a:ext cx="70228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лагодарю за внимание!</a:t>
            </a:r>
            <a:br>
              <a:rPr sz="3600"/>
            </a:b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76360" y="3357360"/>
            <a:ext cx="7392960" cy="28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нтернет ресурс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ttp://pitanie-detey.ru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итание детей. Все лучшее детям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чины недостаточности питательных веществ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рганизме чел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инфекции, ухудшающие аппетит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сутствие доступа к пище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едостаточно развитые медико-санитарные услуг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бедность.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549360"/>
            <a:ext cx="74916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ему именно в образовательных учреждениях следует принимать меры по улучшению питани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ачественное питание укрепляет   здоровье детей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разовательные учреждения играют жизненно важную роль, содействуя качественному питанию укрепляют способность детей к учению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валифицированные специалисты знают, как улучшить здоровье и самочувствие путем оказания помощи через школы, ДОУ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(внедрение учебных программ по медико-санитарному просвещению обучающихся и воспитанников)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Школы могут оказывать экономически эффективную помощь в области пит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школьные здравоохранительные программы, обеспечивающие безопасные и недорогие услуги в этой области, представляют собой один из наиболее рентабельных видов инвестиций государства на здравоохранение)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росвещение и здоровое питание для девочек положительно влияет на здоровье членов семь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Здоровое питание уменьшает опасность возникновения проблем со здоровьем, наиболее характерных для настоящего времен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проявление первых признаков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хронических заболеваний: ожирение, сердечно-сосудистые заболевания, рак и нарушения пищевар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освещение в области питания оказывает   влияние на формирование полезных для здоровья привычек в этой области, что, в свою очередь, ведет к уменьшению опасности возникновения болезней, связанных с пита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лагоприятная для здоровья сред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техническ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ехническое окружение включает в себя школьное здание, классы, места питания, воду и продукты питания, предлагаемые в школе, а также саму местность, в которой находится школ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социальн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 психосоциальному окружению относятся социально-бытовые и психологические условия, влияющие на образование и здоровье школьников. (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Оно включает в себя культурные нормы и пожелания, касающиеся пищи и качества питания, высказываемые школьниками, родителями и школьным персоналом)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18:02Z</dcterms:created>
  <dc:creator>anl</dc:creator>
  <dc:description/>
  <dc:language>en-US</dc:language>
  <cp:lastModifiedBy>User</cp:lastModifiedBy>
  <dcterms:modified xsi:type="dcterms:W3CDTF">2020-09-13T14:38:45Z</dcterms:modified>
  <cp:revision>135</cp:revision>
  <dc:subject/>
  <dc:title>Формирование культуры здорового питания © Легкошур И.М. старший методист «ЦСЗ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